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5BF-AE7B-4AD6-BC3B-597BC15E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052-44EB-4FE6-B94B-6CF0C23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AA6-0C58-4937-8591-2D6A303C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88F-3A89-415D-A841-17B8CBC8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1786-592F-465E-9C9D-8E9502F9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DB47-8FF1-4EEB-BBEF-2C1E7287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14B1-D740-4C52-9509-339BD73D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8545-389A-4069-ADC8-3093843A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7875-1F10-4AE6-A73F-748BF5D8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1625-BB68-4064-8695-52A0DE95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9632-B80B-4CCA-97B7-AE27991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902-65CB-478A-BC9D-DF9D230C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CD68-FD70-42D7-B5AF-DF2C252E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81D0-D63D-4EC8-9EE2-CAE84A19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075C-8F68-4E01-B88B-A79DC0CE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6FF1-B91B-4435-9186-CABC1167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3FCA-D941-4522-97B9-689391DE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85C-202C-4F6F-B2CD-6CCFE4A4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D40-6E7A-4822-95B2-8AD7A90A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744-9E76-4DF2-B71A-063E7020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C51-2B54-4CEC-92F6-8B3B266F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BEA-63FD-442D-8446-325A76DB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EBA-0273-4886-8EF7-D39BAFFE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210-0107-4680-A6B2-B7F50CE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35CB-2496-4C69-817E-71E472D170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9134-AE35-47BD-A6AF-B862AB74DD2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AEA3CAA5-3109-4178-88DC-B74E8C9419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1"/>
          <p:cNvSpPr/>
          <p:nvPr/>
        </p:nvSpPr>
        <p:spPr>
          <a:xfrm>
            <a:off x="571680" y="4419720"/>
            <a:ext cx="800100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itive – Possessor 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'of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ive – Indirect object 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'to' or 'fo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538280"/>
          <a:ext cx="6922800" cy="2247840"/>
        </p:xfrm>
        <a:graphic>
          <a:graphicData uri="http://schemas.openxmlformats.org/drawingml/2006/table">
            <a:tbl>
              <a:tblPr/>
              <a:tblGrid>
                <a:gridCol w="1249200"/>
                <a:gridCol w="1568520"/>
                <a:gridCol w="1515960"/>
                <a:gridCol w="1424160"/>
                <a:gridCol w="1164960"/>
              </a:tblGrid>
              <a:tr h="48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ὁ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th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w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1"/>
          <p:cNvSpPr/>
          <p:nvPr/>
        </p:nvSpPr>
        <p:spPr>
          <a:xfrm>
            <a:off x="1214280" y="2643120"/>
            <a:ext cx="656748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and noun must agree in gender, case an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3A874D89-7B7F-4902-8C0F-2C9E8362EB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24C5D4F7-1DCE-4B14-ADAA-527761BD6F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4"/>
          <p:cNvSpPr/>
          <p:nvPr/>
        </p:nvSpPr>
        <p:spPr>
          <a:xfrm>
            <a:off x="357120" y="1071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3.4 Overview of Nouns an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1160" y="1617840"/>
          <a:ext cx="8648640" cy="3841560"/>
        </p:xfrm>
        <a:graphic>
          <a:graphicData uri="http://schemas.openxmlformats.org/drawingml/2006/table">
            <a:tbl>
              <a:tblPr/>
              <a:tblGrid>
                <a:gridCol w="1017360"/>
                <a:gridCol w="939960"/>
                <a:gridCol w="1017360"/>
                <a:gridCol w="1133640"/>
                <a:gridCol w="1133280"/>
                <a:gridCol w="1136880"/>
                <a:gridCol w="1135080"/>
                <a:gridCol w="113508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ις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77"/>
          <p:cNvSpPr/>
          <p:nvPr/>
        </p:nvSpPr>
        <p:spPr>
          <a:xfrm>
            <a:off x="361800" y="556416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icle endings are the same as the noun except in masc. and fem. nom., and in the neuter (sing.) nom. and a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8840" y="1058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3.5 Variant Feminin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E4241177-36FD-417D-A2B4-4E556485F5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500120"/>
          <a:ext cx="7010280" cy="4235400"/>
        </p:xfrm>
        <a:graphic>
          <a:graphicData uri="http://schemas.openxmlformats.org/drawingml/2006/table">
            <a:tbl>
              <a:tblPr/>
              <a:tblGrid>
                <a:gridCol w="1103400"/>
                <a:gridCol w="903240"/>
                <a:gridCol w="1563480"/>
                <a:gridCol w="1459080"/>
                <a:gridCol w="198108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lor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οξ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64"/>
          <p:cNvSpPr/>
          <p:nvPr/>
        </p:nvSpPr>
        <p:spPr>
          <a:xfrm>
            <a:off x="1214280" y="5811840"/>
            <a:ext cx="7772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ariations between sing. and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wel or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fore end, 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te article pattern follows 3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7120" y="5740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85880" y="1214280"/>
          <a:ext cx="7510320" cy="2283120"/>
        </p:xfrm>
        <a:graphic>
          <a:graphicData uri="http://schemas.openxmlformats.org/drawingml/2006/table">
            <a:tbl>
              <a:tblPr/>
              <a:tblGrid>
                <a:gridCol w="1633320"/>
                <a:gridCol w="2122560"/>
                <a:gridCol w="1447920"/>
                <a:gridCol w="230652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tiv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86CD27C4-B457-4F57-94D6-DA6DB3A0A5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357120" y="3506760"/>
            <a:ext cx="8286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τρε βλεπω δαιμονιον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Peter, I see a dem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ια φιλεις τον κυρι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ary! Do you love the lor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2428920" y="5214600"/>
            <a:ext cx="4343400" cy="108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Kyrie Eleison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ε ἐλεησ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44ECFBFE-2E90-47B1-B568-D202D1A108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14200" y="3214800"/>
            <a:ext cx="857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ἱ ὀχλοι ζητουσιν τον Ἰησου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crowds are seeking 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δουλος του Ἰησου λεγ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slave of Jesus is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1857240" y="5221440"/>
            <a:ext cx="4876920" cy="106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definite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47880" y="1168560"/>
          <a:ext cx="5653080" cy="1996920"/>
        </p:xfrm>
        <a:graphic>
          <a:graphicData uri="http://schemas.openxmlformats.org/drawingml/2006/table">
            <a:tbl>
              <a:tblPr/>
              <a:tblGrid>
                <a:gridCol w="1208160"/>
                <a:gridCol w="1344600"/>
                <a:gridCol w="1709640"/>
                <a:gridCol w="1390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ησ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ησου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ocative is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Ἰησου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6840" y="1214280"/>
          <a:ext cx="8939160" cy="4508640"/>
        </p:xfrm>
        <a:graphic>
          <a:graphicData uri="http://schemas.openxmlformats.org/drawingml/2006/table">
            <a:tbl>
              <a:tblPr/>
              <a:tblGrid>
                <a:gridCol w="798480"/>
                <a:gridCol w="825480"/>
                <a:gridCol w="1273320"/>
                <a:gridCol w="1233360"/>
                <a:gridCol w="1182600"/>
                <a:gridCol w="1208160"/>
                <a:gridCol w="1211400"/>
                <a:gridCol w="1206360"/>
              </a:tblGrid>
              <a:tr h="54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αις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11C6835D-1998-414B-9342-9CE09BB879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6592AE2A-BEB5-4F03-8E14-FC4F80A4D5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85840" y="1247760"/>
            <a:ext cx="7924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ings of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similarity to the article in neu. nom. and acc. 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nnecessary in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ive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ses definite article and 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14240" y="3382920"/>
            <a:ext cx="77155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ουμε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ὐτ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- We are speak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κυρι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ὐτο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φιλ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ὐτ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ster lov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ὐτ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 you se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F0652E75-B096-47EC-8BF9-EFF4B7524C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42880" y="1406520"/>
            <a:ext cx="7772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ὁ ἀγγελος του θεου λεγει τον λογο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αγγελ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word -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po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ence = 'The angel of God speaks the word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9B518D2B-6FFA-4FEA-9643-04CE3FA8E6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4880" y="1655640"/>
            <a:ext cx="701028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ὁ αγγελος λεγει τῳ δουλῳ</a:t>
            </a:r>
            <a:r>
              <a:rPr b="0" lang="en-GB" sz="30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γγελ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ence = 'The angel speaks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A7CFA9AD-B2F8-4ACF-A1DD-8C2D9BC07B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85840" y="1339920"/>
            <a:ext cx="11072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ὁ ἀγγελος λεγει τον λογον του θεου τῳ δουλ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ἀγγελ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the angel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word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possess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ence = 'The angel speaks the word of God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576360" y="2025720"/>
            <a:ext cx="74959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μεν του κυριου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e hear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ομεν τον λογο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We hear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ευουσιν τῳ θε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y believe in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FF08654B-8C66-44CD-A863-A7B3F92CA5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300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PECIAL USES OF THE GENI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47C57F7D-6977-4572-9151-43873141A6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00040" y="1523880"/>
            <a:ext cx="83440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3.3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οὐρανος και ἡ γη παρελευσον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)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av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(the)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ar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pass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198960"/>
            <a:ext cx="83822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.3.1 The idea of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masculine and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feminine and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ερ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neuter and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9"/>
          <p:cNvSpPr/>
          <p:nvPr/>
        </p:nvSpPr>
        <p:spPr>
          <a:xfrm>
            <a:off x="374760" y="12002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3.2 The Feminine and Neuter Decl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7160" y="1763640"/>
          <a:ext cx="7429680" cy="4449960"/>
        </p:xfrm>
        <a:graphic>
          <a:graphicData uri="http://schemas.openxmlformats.org/drawingml/2006/table">
            <a:tbl>
              <a:tblPr/>
              <a:tblGrid>
                <a:gridCol w="1521000"/>
                <a:gridCol w="1374840"/>
                <a:gridCol w="232884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r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ργο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55A10428-130E-4C7B-AECF-1F22A403E90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960DA7C5-2FE3-4076-9633-49A3CBFFDE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00040" y="1428840"/>
            <a:ext cx="731520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om. and acc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lways true in the ne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a special rule for neuter plural nou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normally take a singular ver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'children keep the law' is ‘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α τεκνα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τηρε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71680" y="4980960"/>
            <a:ext cx="8001000" cy="601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Neuter Plural Nouns take a singular verb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66"/>
          <p:cNvSpPr/>
          <p:nvPr/>
        </p:nvSpPr>
        <p:spPr>
          <a:xfrm>
            <a:off x="347760" y="1143000"/>
            <a:ext cx="7010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.3.3 The feminine and the neuter of the definite article: agre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:Grammar </a:t>
            </a:r>
            <a:fld id="{67C7FC27-CDC7-4211-B97E-2209C7DB76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38320" y="2214720"/>
          <a:ext cx="6648480" cy="3992400"/>
        </p:xfrm>
        <a:graphic>
          <a:graphicData uri="http://schemas.openxmlformats.org/drawingml/2006/table">
            <a:tbl>
              <a:tblPr/>
              <a:tblGrid>
                <a:gridCol w="1066680"/>
                <a:gridCol w="933480"/>
                <a:gridCol w="1477800"/>
                <a:gridCol w="1443240"/>
                <a:gridCol w="17272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23:27Z</dcterms:created>
  <dc:creator>Sarah</dc:creator>
  <dc:description/>
  <dc:language>en-US</dc:language>
  <cp:lastModifiedBy>Sarah</cp:lastModifiedBy>
  <dcterms:modified xsi:type="dcterms:W3CDTF">2009-07-10T19:47:40Z</dcterms:modified>
  <cp:revision>63</cp:revision>
  <dc:subject/>
  <dc:title>Slide 1</dc:title>
</cp:coreProperties>
</file>